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D39-DF66-456B-8781-417FA340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69B-310F-4938-B6E2-3C088737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F46-A789-4952-A066-D6CA21FD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0F5-428C-4EB2-81E8-A78D1315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3AC-9C8A-4BBF-A4EE-A2743EF5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FE1-8653-431C-A6FB-0CF75D31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CB1-9838-4577-B7FE-B4214D48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BEC-D05B-453C-94EC-42FF6502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600-7163-4FDA-86D3-B5106C11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AE1-316F-4F59-A66F-5217F12A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833-4B50-49A2-99B2-86028C8C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ACE-5FE9-430E-95A5-F02241D5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9427-9969-443F-BC7A-2D14B5D5C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52560" y="2238480"/>
            <a:ext cx="36388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0" y="2138400"/>
            <a:ext cx="33336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7:47:00Z</dcterms:created>
  <dc:creator>SUZANNE.MD</dc:creator>
  <dc:description/>
  <dc:language>en-US</dc:language>
  <cp:lastModifiedBy>HANI SAFI</cp:lastModifiedBy>
  <dcterms:modified xsi:type="dcterms:W3CDTF">2003-04-16T13:11:01Z</dcterms:modified>
  <cp:revision>2</cp:revision>
  <dc:subject/>
  <dc:title>PowerPoint Presentation</dc:title>
</cp:coreProperties>
</file>